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0C46-31BE-43C5-A7D9-911FD86211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017-A5CE-4887-82A4-FB98ABBDFB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130-79AC-4B5F-BE85-80DA5BD4C7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33A9-FC7A-4314-A2F0-78835974AC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9283-9117-40D3-B004-D7FD7CD2FF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324C-C52C-4424-97C6-02FA7A8D6B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A464-2FB0-4F51-934F-54F909A326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BE8E-DA8B-4F95-AB15-171E5B6160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837C-5C2A-4778-8050-D5E421176D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281-C253-4E89-908C-0CA35CBE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814-65A1-4A32-AA05-270548C6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869-88A0-4CD9-913E-2BCCDB99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669-5DFF-422E-8A8C-D2F1B24F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3B64-5162-4A54-B7B1-D273CFC8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CFED-0DD2-4740-B6FC-1A72B94D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A4FA-6DDE-4700-AFDE-D3B47694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00DC-EB81-449F-9320-14AE3AC5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75DC-B0CA-48B8-8808-6DD53ADB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984F-6AA1-48AA-92DD-206A029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3355-4834-497A-93FB-A961FA2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C7F-406D-4269-A3C1-86EB18A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E48C-F74E-46EF-9510-EEA1C91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E46A-8982-4341-A43D-5B4F31A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0883-CE3E-42D8-9517-2A0B00C1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B99D-3D28-4508-B944-67B9E432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AB4E-BA5B-4A51-97A5-7E121F11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044-ACCC-4C78-97CA-5A3694E2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18E-ACB3-4A6E-8222-FD7F0EFA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DB7-BEDD-4EFE-B5B0-FABFE81A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8FC-D8FF-4BB2-AD7C-384F4CE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BAE-20B9-4F23-B877-6473F3F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611-EF26-4372-81D9-892A506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81A-C755-4FB2-B13E-C95E647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868-EF84-4ABB-A813-07E4794BC3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5CA8-C705-40D3-9B20-6EE6DBC30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5147-5EBC-4442-A201-D587F99A83A1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5BE-0B8D-468D-86C4-B835830D98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khail-smaglyuk.narod.ru/Excluziv/e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focus.in.ua/i/phb/7082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История регалий Кубанского казачеств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640080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-презентация, посвящённая памятным регалиям ,связанным с историей Кубанского казачьего вой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764F-29A4-4673-A35B-743729E691A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EA13-EE04-4865-9BB5-2B6EE7EB3E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62120" y="541008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и :учитель Кубановедения Кузьмина Л М.г.Лабинск ,СОШ№9; учитель психологии Ильичёва Т.Н. МОУ СОШ № 15 Белогли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3623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B0B3-D117-4A93-BD70-1B32C0293701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6EAD-2377-4FED-8A97-57A6F1C905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идор Игнатьевич Белый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735-1788 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кошевой атаман Войска верных казаков ,подполков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 истории портрет не сохранил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787 г. Во время путешествия Екатерин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Новороссийский край при содействии Г.А.Потёмкина С.И.Белый вручил ей адрес с пожеланием восстановления казачьего служения на Украине .Просьба была принята и он собрал около 10000 пластунов и 2800 конных казаков ,построил морскую флотил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788г. А.В.Суворов вручил ему куренные знамёна ,атаманскую булаву, пернач и печ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BAE-986E-43CE-95D3-9B44FB99D59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DBB-A15C-42F8-9B3A-D2A577C5EA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75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13" descr="59D6A291"/>
          <p:cNvPicPr/>
          <p:nvPr/>
        </p:nvPicPr>
        <p:blipFill>
          <a:blip r:embed="rId1"/>
          <a:stretch/>
        </p:blipFill>
        <p:spPr>
          <a:xfrm>
            <a:off x="533520" y="380880"/>
            <a:ext cx="3860640" cy="5181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4"/>
          <p:cNvSpPr/>
          <p:nvPr/>
        </p:nvSpPr>
        <p:spPr>
          <a:xfrm>
            <a:off x="48006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харий Алексеевич Чепе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726-1797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788 г. Потёмкиным назначен атаманом Войска верных черноморских каз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3CF5-8B07-41C7-A65E-8D24B2B77F3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C24E-8CD9-4584-AAF9-A7C79CBC2B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29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197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2"/>
          <p:cNvSpPr/>
          <p:nvPr/>
        </p:nvSpPr>
        <p:spPr>
          <a:xfrm>
            <a:off x="533520" y="5494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ые знамёна ,жалованные Екатерин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ерноморским каз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57200" y="209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мая ценная и значимая часть регалий -это войсковые знамё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Знамена вручались как коллективная награда войску или его подразделениям после каждой удачной кампани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2" descr="C:\Documents and Settings\Андрей\Мои документы\Мои рисунки\знамя.jpg"/>
          <p:cNvPicPr/>
          <p:nvPr/>
        </p:nvPicPr>
        <p:blipFill>
          <a:blip r:embed="rId1"/>
          <a:stretch/>
        </p:blipFill>
        <p:spPr>
          <a:xfrm>
            <a:off x="228600" y="3809880"/>
            <a:ext cx="4040280" cy="2419560"/>
          </a:xfrm>
          <a:prstGeom prst="rect">
            <a:avLst/>
          </a:prstGeom>
          <a:ln w="0">
            <a:noFill/>
          </a:ln>
        </p:spPr>
      </p:pic>
      <p:sp>
        <p:nvSpPr>
          <p:cNvPr id="27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7F6A-5225-44A2-99F7-A7834FD243A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07E7-AD51-4230-8F2C-02E04D25FF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3" descr="C:\Documents and Settings\Андрей\Мои документы\Мои рисунки\знамя2.jpg"/>
          <p:cNvPicPr/>
          <p:nvPr/>
        </p:nvPicPr>
        <p:blipFill>
          <a:blip r:embed="rId2"/>
          <a:stretch/>
        </p:blipFill>
        <p:spPr>
          <a:xfrm>
            <a:off x="4724280" y="3809880"/>
            <a:ext cx="4041720" cy="243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Documents and Settings\Андрей\Мои документы\Мои рисунки\знамя3.jpg"/>
          <p:cNvPicPr/>
          <p:nvPr/>
        </p:nvPicPr>
        <p:blipFill>
          <a:blip r:embed="rId3"/>
          <a:stretch/>
        </p:blipFill>
        <p:spPr>
          <a:xfrm>
            <a:off x="2514600" y="1371600"/>
            <a:ext cx="39625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Не менее важными являлись штандарты, знамена куренные, полковые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Часто вручение знамени сопровождалось вручением высочайших грамот, рескриптов.</a:t>
            </a:r>
            <a:br>
              <a:rPr sz="24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(в составе регалий их насчитывается несколько десятков)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0AA3-597E-4D22-B967-980FA0B19CF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E1E5-AB21-49BF-A920-0B1E26DE3F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C:\Documents and Settings\Андрей\Мои документы\Мои рисунки\штандарты.jpg"/>
          <p:cNvPicPr/>
          <p:nvPr/>
        </p:nvPicPr>
        <p:blipFill>
          <a:blip r:embed="rId1"/>
          <a:stretch/>
        </p:blipFill>
        <p:spPr>
          <a:xfrm>
            <a:off x="533520" y="2743200"/>
            <a:ext cx="4039920" cy="2843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C:\Documents and Settings\Андрей\Мои документы\Мои рисунки\Штандарты.jpeg"/>
          <p:cNvPicPr/>
          <p:nvPr/>
        </p:nvPicPr>
        <p:blipFill>
          <a:blip r:embed="rId2"/>
          <a:stretch/>
        </p:blipFill>
        <p:spPr>
          <a:xfrm>
            <a:off x="4952880" y="2743200"/>
            <a:ext cx="37339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оллективной воинской наградой служили наградные трубы и наградные серебряные литавры, используемые в особо торжественных случаях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81AC-0CE4-4034-86D5-10F302E777B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EC60-D5EA-43E7-864D-8A4B2CD346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" descr="C:\Documents and Settings\Андрей\Мои документы\Мои рисунки\литавры.jpg"/>
          <p:cNvPicPr/>
          <p:nvPr/>
        </p:nvPicPr>
        <p:blipFill>
          <a:blip r:embed="rId1"/>
          <a:stretch/>
        </p:blipFill>
        <p:spPr>
          <a:xfrm>
            <a:off x="1523880" y="1828800"/>
            <a:ext cx="6172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40EF-31FB-40C1-B625-B9B2E5F9891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626-D3DF-4381-B019-E36A3A77C8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ИМВОЛЫ АТАМАНСКОЙ ВЛАСТИ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булава ,бунчук, насека, пернач, печати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Picture 8" descr="Картинка 42 из 2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8288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0"/>
          <p:cNvSpPr/>
          <p:nvPr/>
        </p:nvSpPr>
        <p:spPr>
          <a:xfrm>
            <a:off x="304920" y="52578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380880" y="54864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лава -старинное оружие в виде тяжёлой металлической или каменной гол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5486400" y="54864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5334120" y="5410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нач -старинное оружие вершие которого было грушевидной формы и делилось на несколько до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12" descr="пернач"/>
          <p:cNvPicPr/>
          <p:nvPr/>
        </p:nvPicPr>
        <p:blipFill>
          <a:blip r:embed="rId3"/>
          <a:stretch/>
        </p:blipFill>
        <p:spPr>
          <a:xfrm>
            <a:off x="5867280" y="1523880"/>
            <a:ext cx="800280" cy="381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пернач2"/>
          <p:cNvPicPr/>
          <p:nvPr/>
        </p:nvPicPr>
        <p:blipFill>
          <a:blip r:embed="rId4"/>
          <a:stretch/>
        </p:blipFill>
        <p:spPr>
          <a:xfrm>
            <a:off x="7162920" y="1752480"/>
            <a:ext cx="144756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45720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FB7A-8E7D-4634-8BF1-7BC35E467C5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C1D-52F7-4C59-A071-F2CF39D4A0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0880" y="45720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Бунчу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нак власти .Представлял собой конский хвост, подвешенный к украшенному древку .Казаки позаимствовали бунчук у турок и крымских тат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с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собый вид булавы знак достоинства низших казачьих нача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1523880" y="5881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н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8" descr="3"/>
          <p:cNvPicPr/>
          <p:nvPr/>
        </p:nvPicPr>
        <p:blipFill>
          <a:blip r:embed="rId1"/>
          <a:stretch/>
        </p:blipFill>
        <p:spPr>
          <a:xfrm>
            <a:off x="6858000" y="2743200"/>
            <a:ext cx="1028880" cy="29829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9"/>
          <p:cNvSpPr/>
          <p:nvPr/>
        </p:nvSpPr>
        <p:spPr>
          <a:xfrm>
            <a:off x="67057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15" descr="w24"/>
          <p:cNvPicPr/>
          <p:nvPr/>
        </p:nvPicPr>
        <p:blipFill>
          <a:blip r:embed="rId2"/>
          <a:stretch/>
        </p:blipFill>
        <p:spPr>
          <a:xfrm>
            <a:off x="1371600" y="3352680"/>
            <a:ext cx="36576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ПЕЧАТИ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- СИМВОЛ АДМИНИСТРАТИВНОЙ, ХОЗЯЙСТВЕННОЙ И ДИПЛОМАТИЧЕСКОЙ ВЛАСТИ АТАМАНА.</a:t>
            </a: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2160" y="44956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е 1788 г.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жаловала вновь образованному Войску верных казаков печать с изображением казака и надписью: «Печать коша Войска верных казак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8632-EF94-42CD-A01D-1FB7986BF0E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B84-EF04-416E-950E-5DC0AA6B7F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Рисунок 8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2198520" cy="259740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7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223380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3352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и среди регалий предметы, которые кажутся будничными, бытовыми. Это блюдо и солонка  - подарок Екатери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мундир императора Александ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еркеска великого князя Михаила Николаевича, портупея Никола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Эти подарки бережно хранили, передавали из поколения в поко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6FDF-6432-44DC-A17D-D8C2D2A1359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0A1-A070-4549-94C2-686D4B5E31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C:\Documents and Settings\Андрей\Мои документы\Мои рисунки\блюдо.jpg"/>
          <p:cNvPicPr/>
          <p:nvPr/>
        </p:nvPicPr>
        <p:blipFill>
          <a:blip r:embed="rId1"/>
          <a:stretch/>
        </p:blipFill>
        <p:spPr>
          <a:xfrm>
            <a:off x="2133720" y="3276720"/>
            <a:ext cx="480060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613E-8064-4167-B226-205F8FC9AA5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3FE5-EE3E-4453-B095-5A16355329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за сохранность и  передачу подрастающему  поколению  кубанцев казачьих реликвий  и  обычаев  пред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Картинка 8 из 2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000080"/>
            <a:ext cx="2781360" cy="4029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914400" y="1428840"/>
            <a:ext cx="40384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8 февраля 1918 года регалии вывезены в Брюховецкую, через 100 дней они тайно отправлены в Сербию, затем в Югославию и С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лишь в наше время  они вернулись на Род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Дата 3"/>
          <p:cNvSpPr/>
          <p:nvPr/>
        </p:nvSpPr>
        <p:spPr>
          <a:xfrm>
            <a:off x="838080" y="6172200"/>
            <a:ext cx="807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апреля 2007 года регалии  были  возвращены  на  Кубан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63E-FCB7-4494-9365-411AEF6709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рическое возвращение казачьей святын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Picture 4" descr="2"/>
          <p:cNvPicPr/>
          <p:nvPr/>
        </p:nvPicPr>
        <p:blipFill>
          <a:blip r:embed="rId1"/>
          <a:stretch/>
        </p:blipFill>
        <p:spPr>
          <a:xfrm>
            <a:off x="2286000" y="1447920"/>
            <a:ext cx="4854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D0B-5A55-4140-9D66-C1359A5BE9B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387-6777-4158-9A90-9BC9BEBDA6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ки благодарны тем ,кто сохранил кубанские реликвии и продолжают на них воспитывать воинскую доблесть и верность Отече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4" descr="1-1"/>
          <p:cNvPicPr/>
          <p:nvPr/>
        </p:nvPicPr>
        <p:blipFill>
          <a:blip r:embed="rId1"/>
          <a:stretch/>
        </p:blipFill>
        <p:spPr>
          <a:xfrm>
            <a:off x="838080" y="2209680"/>
            <a:ext cx="2622600" cy="3940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1"/>
          <p:cNvPicPr/>
          <p:nvPr/>
        </p:nvPicPr>
        <p:blipFill>
          <a:blip r:embed="rId2"/>
          <a:stretch/>
        </p:blipFill>
        <p:spPr>
          <a:xfrm>
            <a:off x="4876920" y="1371600"/>
            <a:ext cx="3557520" cy="531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4B1-8CD3-4FFD-8206-124B0C1A827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A7C-BAFB-4A88-AC8E-9454DD7B52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1371600" y="914400"/>
            <a:ext cx="6629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традиции государи, подтверждая крепость договора  с казаками, присылали им знамёна и литавры. В дальнейшем вручались бунчуки, булавы, серебряные литавры, пернач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е время у Черноморцев все дары государей назывались немецким словом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клейноды (драгоценность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Регалии (от лат.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egalis –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арский) означали царскую власть: скипетр, корона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Кубани это слово приобрело широкое толкование. Всё что подарено монархами стали называть регал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часть регалий хранилась на Тамани, в доме А.А.Головатого, другая часть – в войсковом граде Екатеринодаре в Свято – Троицкой церкви, затем в Воскресенском собо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жегодно на второй день Пасхи боевые знамёна вместе с другими регалиями (булавами, перначами, бунчуками, наградными трубами и литаврами)  вносили в войсковой собор во имя Святого  князя Александра Невского, где кропили святой водой и после литургии выносили на площадь  на показ народу. Вынос регалий совершался в войсковые праздники, юбилейные и памятные для войска и России торжества, на военные парады, в день присяги войскового  атама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2514600" y="380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спра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9FE9-2683-4558-9509-EBBCBC27A7F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86BA-8214-416B-AF53-FBE254D6A4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685800" y="5335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Ь СЕБ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762120" y="1066680"/>
            <a:ext cx="807696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было образовано Черноморское казачье войск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782г.                              1788г.                       178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и кем была подписана «жалованная грамота» Черноморскому казачьему войск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тёмкин (1744г.)          Пёт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(170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)      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774г.) Назовите символ атаманской в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лава               конь                       фл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был первым кошевым атаманом Кубанского казачьего войс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ый                 Головатый                  Чепе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овите самую ценную и значимую часть казачьих регал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чать                  насека                        зна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CB14-BA5A-4DB7-BBA4-97E6305DDE1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F4DE-9424-4755-A4FB-0DD9AAD006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ё хочет возродиться, хочет ж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сти. Любить. Найти свои орби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ольный конь вдоль берега бежи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едая, что он уже забы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сана Пахлев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FB1-3A37-4FED-B77E-B87E353EEF3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875B-7862-43DA-9991-208BEEC87A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8e4"/>
                </a:solidFill>
                <a:latin typeface="Georgia"/>
              </a:rPr>
              <a:t>ЗАДАЧИ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ормировать осмысленное восприятие исторических фа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Развивать чувство гордости, любви к Малой Роди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Воспитывать уважение к подвигам пред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пуляризовать знания о казачьих регалиях, реликвиях и симво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B34D-73DB-4422-965E-2307BC54609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8B5B-F401-4941-B789-7D8163ACE4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ошевой атаман-руководитель лагеря, ставки(употреблялось казаками Запорожь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Регалии-ценные предметы, войсковые знаки отличия, атрибуты вла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Булава-старинное оружие в виде тяжёлой каменной головки на рукоя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Бунчук-знак власти в виде конского хвоста, подвешенного к украшенному древ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Перначи-булава грушевидной формы, поделённая на части в виде птичьих перь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WordArt 11"/>
          <p:cNvSpPr txBox="1"/>
          <p:nvPr/>
        </p:nvSpPr>
        <p:spPr>
          <a:xfrm>
            <a:off x="2362320" y="304920"/>
            <a:ext cx="3733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ОВАРЬ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D02-075D-4C5C-937E-B0F2CC0E3C0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C2B-0C88-4243-9AC3-5FE769E388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скурс в истор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-XV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х крупные феодалы и монархи жаловали Запорожское и Донское казачьи войска ценными предметами, войсковыми знаками отличия, различными атрибутами власти: хоругвями и штандартами, бунчуками и булавами ,барабанами, наградными серебряными трубами, серебряными гербовыми печатями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эти дорогие предметы, напоминавшие о военных заслугах, казаки хранили и почит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BDEC-4825-4150-8E13-7D40217144D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91A7-BD2F-4226-92F9-20A021999F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5486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лавная реликвия Кубанского казачьего войска- жалованная грамота императрицы Екатерины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дарованная казакам в июле 1774 год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70602694"/>
          <p:cNvPicPr/>
          <p:nvPr/>
        </p:nvPicPr>
        <p:blipFill>
          <a:blip r:embed="rId1"/>
          <a:stretch/>
        </p:blipFill>
        <p:spPr>
          <a:xfrm>
            <a:off x="457200" y="152280"/>
            <a:ext cx="4038480" cy="5410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87E445FC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0FD-8CF6-4494-890F-A56345A56DB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0177-15F4-4B99-AF8A-C19D54CE1C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Сув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30-180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нваре 1778 года им были укреплены границы ,наведены сторожевые линии, налажены дружеские отношения с местным насел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191A8E2D"/>
          <p:cNvPicPr/>
          <p:nvPr/>
        </p:nvPicPr>
        <p:blipFill>
          <a:blip r:embed="rId1"/>
          <a:stretch/>
        </p:blipFill>
        <p:spPr>
          <a:xfrm>
            <a:off x="838080" y="762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86200" y="5267160"/>
            <a:ext cx="556272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НЯЗЬ Г. А. ПОТЕМКИН-ТАВРИЧЕСКИ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1800" y="304560"/>
            <a:ext cx="3621240" cy="510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787 году по приказу Потёмкина из бывших запорожских казаков стали набирать команды .Их назвали Войском верных казаков .За успехи в войне 1788года Войско верных казаков получило название  «Черноморско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8FA-3871-4FDA-9CB8-A08D89E27DA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6D43-9351-4551-AE2D-95D0D84534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0" descr="4741D387"/>
          <p:cNvPicPr/>
          <p:nvPr/>
        </p:nvPicPr>
        <p:blipFill>
          <a:blip r:embed="rId1"/>
          <a:stretch/>
        </p:blipFill>
        <p:spPr>
          <a:xfrm>
            <a:off x="4724280" y="5335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заревский</cp:lastModifiedBy>
  <dcterms:modified xsi:type="dcterms:W3CDTF">2008-11-18T12:13:4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